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1BBD-1F66-439C-BADB-5FAD0D65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C81-3FE8-447E-8C76-3F0BD40C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D62-FF19-4821-B766-25A085A5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8A6-BD6D-4879-B62E-F1386F44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57C3-F637-49CD-8732-0E39DB7D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AA46-A6C1-4E9C-A4F2-565923FF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1CB-95E5-457C-8F21-561BB784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C2B7-F836-4CD5-BFC4-F481201C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740-95DF-4263-B8E8-CAECFBDF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658-FBDB-49D6-928C-AB3727DD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A9F-1EFD-48BB-A1B5-5DB156FC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F062-969A-4846-8B7B-DF916372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77D2-3543-452B-91AE-4D7C174529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youtube.com/watch?v=vc324aHB2m8" TargetMode="Externa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pfV0Oerfr8" TargetMode="External"/><Relationship Id="rId2" Type="http://schemas.openxmlformats.org/officeDocument/2006/relationships/hyperlink" Target="http://www.youtube.com/user/mjmfoodie#p/u/67/38hvvAzgXZY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do countries tra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 21 IB International Econo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6" descr="french_wine"/>
          <p:cNvPicPr/>
          <p:nvPr/>
        </p:nvPicPr>
        <p:blipFill>
          <a:blip r:embed="rId1"/>
          <a:stretch/>
        </p:blipFill>
        <p:spPr>
          <a:xfrm>
            <a:off x="3851280" y="0"/>
            <a:ext cx="3486240" cy="3619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3888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alibri"/>
              </a:rPr>
              <a:t>Comparative Advant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 terms of comparative advantage France has a comparative advantage in production of wi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rance has to give up 4/3 kilos of cheese to produce a litre of wi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oland would have to give up 3 kilos of cheese to produce a litre of wi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4/3 is smaller than 3 so France has the comparative advanta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oland has a comparative advantage in production of chee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1/3 is smaller than ¾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theory of comparative advantage tells us that France should specialise in wine and Poland should specialise in chee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rance will consume that wine that they wish and use the extra to trade for chee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067280" y="4292640"/>
          <a:ext cx="4895640" cy="1981080"/>
        </p:xfrm>
        <a:graphic>
          <a:graphicData uri="http://schemas.openxmlformats.org/drawingml/2006/table">
            <a:tbl>
              <a:tblPr/>
              <a:tblGrid>
                <a:gridCol w="936360"/>
                <a:gridCol w="720720"/>
                <a:gridCol w="1224000"/>
                <a:gridCol w="792360"/>
                <a:gridCol w="122220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res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y cost of 1 litre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s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y cost of 1 kilo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kilos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 litre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kilos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 litre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38" descr="902-2T"/>
          <p:cNvPicPr/>
          <p:nvPr/>
        </p:nvPicPr>
        <p:blipFill>
          <a:blip r:embed="rId2"/>
          <a:stretch/>
        </p:blipFill>
        <p:spPr>
          <a:xfrm>
            <a:off x="6804000" y="0"/>
            <a:ext cx="21812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4032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Comparative Advant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e can illustrate this using production possibility curv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diagram shows exactly the same as the tab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hen a country has an absolute advantage in producing both goods (France) and the scale of the axes is the sam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comparative advantage for the better producer is in the good where the distance between the production possibilities is the greatest </a:t>
            </a:r>
            <a:r>
              <a:rPr b="0" lang="en-GB" sz="1900" spc="-1" strike="noStrike">
                <a:solidFill>
                  <a:srgbClr val="333399"/>
                </a:solidFill>
                <a:latin typeface="Arial"/>
              </a:rPr>
              <a:t>(a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comparative advantage for the less efficient producer is where the distance between the production possibilities is least </a:t>
            </a:r>
            <a:r>
              <a:rPr b="0" lang="en-GB" sz="1900" spc="-1" strike="noStrike">
                <a:solidFill>
                  <a:srgbClr val="333399"/>
                </a:solidFill>
                <a:latin typeface="Arial"/>
              </a:rPr>
              <a:t>(b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us France has the comparative advantage in Wine and Poland chee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slope of the line shows the opportunity costs which is always a constant opportunity co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067280" y="4292640"/>
          <a:ext cx="4895640" cy="1981080"/>
        </p:xfrm>
        <a:graphic>
          <a:graphicData uri="http://schemas.openxmlformats.org/drawingml/2006/table">
            <a:tbl>
              <a:tblPr/>
              <a:tblGrid>
                <a:gridCol w="936360"/>
                <a:gridCol w="720720"/>
                <a:gridCol w="1224000"/>
                <a:gridCol w="792360"/>
                <a:gridCol w="122220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res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y cost of 1 litre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s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y cost of 1 kilo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kilos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 litre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kilos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 litre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29" descr="scan001001"/>
          <p:cNvPicPr/>
          <p:nvPr/>
        </p:nvPicPr>
        <p:blipFill>
          <a:blip r:embed="rId1"/>
          <a:stretch/>
        </p:blipFill>
        <p:spPr>
          <a:xfrm>
            <a:off x="4584600" y="190440"/>
            <a:ext cx="360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4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mparative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only works if the opportunity costs are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y are the same there would be no point in trade taking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lopes are the s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pportunity costs are the s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1" descr="scan002001"/>
          <p:cNvPicPr/>
          <p:nvPr/>
        </p:nvPicPr>
        <p:blipFill>
          <a:blip r:embed="rId1"/>
          <a:stretch/>
        </p:blipFill>
        <p:spPr>
          <a:xfrm>
            <a:off x="539640" y="5308560"/>
            <a:ext cx="8210520" cy="1549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2" descr="scan002001"/>
          <p:cNvPicPr/>
          <p:nvPr/>
        </p:nvPicPr>
        <p:blipFill>
          <a:blip r:embed="rId2"/>
          <a:stretch/>
        </p:blipFill>
        <p:spPr>
          <a:xfrm>
            <a:off x="2411280" y="2781360"/>
            <a:ext cx="367056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can002001"/>
          <p:cNvPicPr/>
          <p:nvPr/>
        </p:nvPicPr>
        <p:blipFill>
          <a:blip r:embed="rId1"/>
          <a:stretch/>
        </p:blipFill>
        <p:spPr>
          <a:xfrm>
            <a:off x="0" y="1814400"/>
            <a:ext cx="98964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hat give a country comparative Advanta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o a large extent this is due to a country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 factor endow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a country has a large amount of arable land it may develop a comparative advantage in agricultural produ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country with beautiful beaches and a favourable climate may develop its comparative advantage in the output of tourist services (climate can be a factor of production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2" descr="Maldives-001"/>
          <p:cNvPicPr/>
          <p:nvPr/>
        </p:nvPicPr>
        <p:blipFill>
          <a:blip r:embed="rId1"/>
          <a:stretch/>
        </p:blipFill>
        <p:spPr>
          <a:xfrm>
            <a:off x="4643280" y="3429000"/>
            <a:ext cx="4381560" cy="26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4" descr="Images &gt; Flowers &gt; Sunflower pictures &gt; sunflowers , 'sunflower field' "/>
          <p:cNvPicPr/>
          <p:nvPr/>
        </p:nvPicPr>
        <p:blipFill>
          <a:blip r:embed="rId2"/>
          <a:stretch/>
        </p:blipFill>
        <p:spPr>
          <a:xfrm>
            <a:off x="4716360" y="189000"/>
            <a:ext cx="41338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662472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imitations of the theory of comparative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theory is based upon a number of assump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se assumptions limit the application of the theory in real lif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rs have perfect knowledge and are aware of where the least expensive goods may be purcha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no transport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only 2 economies producing goods – not so much of a problem with the use of computer sim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s do not change and returns to scale are constant (no economies or diseconomies of sca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ds being traded are iden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his may be ok with commodities but not goods like consumer durab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tors of production remain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may be the factors of production that move rather than the go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ed countries may invest capital in LDCs to produce go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our may migrate from low-wage to high-wage countries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limitations"/>
          <p:cNvPicPr/>
          <p:nvPr/>
        </p:nvPicPr>
        <p:blipFill>
          <a:blip r:embed="rId1"/>
          <a:stretch/>
        </p:blipFill>
        <p:spPr>
          <a:xfrm>
            <a:off x="6746760" y="3645000"/>
            <a:ext cx="2397240" cy="287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think"/>
          <p:cNvPicPr/>
          <p:nvPr/>
        </p:nvPicPr>
        <p:blipFill>
          <a:blip r:embed="rId2"/>
          <a:stretch/>
        </p:blipFill>
        <p:spPr>
          <a:xfrm>
            <a:off x="6804000" y="549360"/>
            <a:ext cx="22352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scan001001"/>
          <p:cNvPicPr/>
          <p:nvPr/>
        </p:nvPicPr>
        <p:blipFill>
          <a:blip r:embed="rId1"/>
          <a:stretch/>
        </p:blipFill>
        <p:spPr>
          <a:xfrm rot="21441000">
            <a:off x="1386000" y="60120"/>
            <a:ext cx="3743280" cy="676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521964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 your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5435640" y="30034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vc324aHB2m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2" descr=""/>
          <p:cNvPicPr/>
          <p:nvPr/>
        </p:nvPicPr>
        <p:blipFill>
          <a:blip r:embed="rId3"/>
          <a:stretch/>
        </p:blipFill>
        <p:spPr>
          <a:xfrm>
            <a:off x="5705640" y="4149720"/>
            <a:ext cx="134604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597708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Limitations of the theory of comparative adva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 spite of limitations, comparative advantage is at the core of international theor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t goes a long way to explain patterns of tra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HL homework - Using a diagram explain the concept of comparative advantage (10 Mark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ll - Research the WTO ready for class discu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oYouGetItFinal"/>
          <p:cNvPicPr/>
          <p:nvPr/>
        </p:nvPicPr>
        <p:blipFill>
          <a:blip r:embed="rId1"/>
          <a:stretch/>
        </p:blipFill>
        <p:spPr>
          <a:xfrm>
            <a:off x="5940360" y="22766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trade1"/>
          <p:cNvPicPr/>
          <p:nvPr/>
        </p:nvPicPr>
        <p:blipFill>
          <a:blip r:embed="rId1"/>
          <a:stretch/>
        </p:blipFill>
        <p:spPr>
          <a:xfrm>
            <a:off x="5364000" y="2852640"/>
            <a:ext cx="3600720" cy="3073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6337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The gains from  international t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alibri"/>
              </a:rPr>
              <a:t>Lower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umers can buy at lower prices than domest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ers can buy less expensive raw materials and semi manufactured go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ces may be lower in some countries because they h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to natural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erences in quality of lab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erences in quality of cap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erent levels of tech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ain cause of lower prices is             comparative advantage (see lat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alibri"/>
              </a:rPr>
              <a:t>Greater cho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umers have access to domestic and international produ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7236000" y="260280"/>
            <a:ext cx="165708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national trad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the exchange of goods and services betwee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6265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alibri"/>
              </a:rPr>
              <a:t>The gains from international tr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Calibri"/>
              </a:rPr>
              <a:t>Differences in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re will be resources that a country needs to produce other goods but does not have and has to im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pper, diamonds, o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ingapore imports almost every natural resource but has a high level of exports to fund their impor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audi has oil while Japan has n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osta Rica has the climate to grow bananas whereas the UK canno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USA has a large stock of skilled workers when Sudan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 is comparatively unskilled et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se differences lead to tra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Calibri"/>
              </a:rPr>
              <a:t>Economies of sc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size of the market increa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mand increa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oduction can incre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oduction becomes more effici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ivision of Labour and Specialisation can incre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nagers become more knowledge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is leads to economies of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f countries specialise they acquire experience and expertise (they move down the learning curve – the LRAC curv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 the long run with larger production and larger markets export industries should get more efficient and competitive leading to a reduction in long-ru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7236000" y="260280"/>
            <a:ext cx="165708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ngapore has to import almost every natural resource – even wat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saudi_oil"/>
          <p:cNvPicPr/>
          <p:nvPr/>
        </p:nvPicPr>
        <p:blipFill>
          <a:blip r:embed="rId1"/>
          <a:stretch/>
        </p:blipFill>
        <p:spPr>
          <a:xfrm>
            <a:off x="6300720" y="2060640"/>
            <a:ext cx="2749680" cy="187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osta-rica-bananas"/>
          <p:cNvPicPr/>
          <p:nvPr/>
        </p:nvPicPr>
        <p:blipFill>
          <a:blip r:embed="rId2"/>
          <a:stretch/>
        </p:blipFill>
        <p:spPr>
          <a:xfrm>
            <a:off x="6711840" y="4005360"/>
            <a:ext cx="21114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3827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The gains from  international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alibri"/>
              </a:rPr>
              <a:t>Increased com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ces red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impro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novation improves giving more var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804000" y="404640"/>
            <a:ext cx="194472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sk 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 out what Bahrain exports and imports (include val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BahrainGateway1"/>
          <p:cNvPicPr/>
          <p:nvPr/>
        </p:nvPicPr>
        <p:blipFill>
          <a:blip r:embed="rId1"/>
          <a:stretch/>
        </p:blipFill>
        <p:spPr>
          <a:xfrm>
            <a:off x="4356000" y="2273400"/>
            <a:ext cx="475308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L on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7640" y="189000"/>
            <a:ext cx="5267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alibri"/>
              </a:rPr>
              <a:t>Comparative Adva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ich goods should a country produce for export and which should it im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answer lies in the concept of comparative adva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atch these vide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ardening parable -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youtube.com/watch?v=RpfV0Oerfr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jmfoodie -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www.youtube.com/user/mjmfoodie#p/u/67/38hvvAzgXZY</a:t>
            </a:r>
            <a:r>
              <a:rPr b="0" lang="en-GB" sz="24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Outsource%2520to%2520India"/>
          <p:cNvPicPr/>
          <p:nvPr/>
        </p:nvPicPr>
        <p:blipFill>
          <a:blip r:embed="rId3"/>
          <a:stretch/>
        </p:blipFill>
        <p:spPr>
          <a:xfrm>
            <a:off x="4826160" y="1268280"/>
            <a:ext cx="43178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164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Calibri"/>
              </a:rPr>
              <a:t>Comparative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example for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absolute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table shows the production outcomes where 2 countries are using the same quantities of resources to produce lamb and clo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alf of their resources are being used for lamb and the other for clo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stralia has absolute advantage in producing lamb (it can produce 6 kilos vs 4 kilos with the same resour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hina has absolute advantage in producing cloth (it can produce 3 kilos vs 1 kil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this situation Australia should specialise in lamb and China in clo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64832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1290600"/>
                <a:gridCol w="1190520"/>
                <a:gridCol w="155736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s of la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es of clo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without t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44"/>
          <p:cNvSpPr/>
          <p:nvPr/>
        </p:nvSpPr>
        <p:spPr>
          <a:xfrm>
            <a:off x="7740720" y="26028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5003640" y="189000"/>
            <a:ext cx="396108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bsolute advantage 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a country has absolute advantage it can produce a good using fewer resources than anothe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4832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1290600"/>
                <a:gridCol w="1190520"/>
                <a:gridCol w="1557360"/>
              </a:tblGrid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s of la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es of clo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without t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164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Comparative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ustralia uses all of its resources for lamb it will double its output (assuming constant returns to scale) and make 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gives a total of 12 which is 2 more than before (there is an advantage to them specialis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China uses all of its resources to make cloth it will double its output to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ew total of 6 instead of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situation, where each country has an absolute advantage in the production of one product is known as reciprocal absolute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4832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1290600"/>
                <a:gridCol w="1190520"/>
                <a:gridCol w="155736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s of la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es of clo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without t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4" name="Text Box 44"/>
          <p:cNvSpPr/>
          <p:nvPr/>
        </p:nvSpPr>
        <p:spPr>
          <a:xfrm>
            <a:off x="7740720" y="26028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5"/>
          <p:cNvSpPr/>
          <p:nvPr/>
        </p:nvSpPr>
        <p:spPr>
          <a:xfrm>
            <a:off x="5003640" y="189000"/>
            <a:ext cx="396108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bsolute advantage 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a country has absolute advantage it can produce a good using fewer resources than anothe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4832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1290600"/>
                <a:gridCol w="1190520"/>
                <a:gridCol w="1557360"/>
              </a:tblGrid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s of la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es of clo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without t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38880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Comparative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happens if there is not a situation of reciprocal absolute advantag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vid Ricardo (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entury) proved mathematically that trade could still be beneficial to both countries when one country had an absolute advantage in producing all go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looked at the opportunity cost of production to explai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omparative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table shows the production outcomes of France and Poland for wine and chee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ce has absolute advantage in producing both go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924360" y="4292640"/>
          <a:ext cx="4895640" cy="1981080"/>
        </p:xfrm>
        <a:graphic>
          <a:graphicData uri="http://schemas.openxmlformats.org/drawingml/2006/table">
            <a:tbl>
              <a:tblPr/>
              <a:tblGrid>
                <a:gridCol w="936720"/>
                <a:gridCol w="718920"/>
                <a:gridCol w="1224000"/>
                <a:gridCol w="792360"/>
                <a:gridCol w="12236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res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y cost of 1 litre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s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y cost of 1 kilo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kilos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 litre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kilos of che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 litre of w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9" name="Text Box 65"/>
          <p:cNvSpPr/>
          <p:nvPr/>
        </p:nvSpPr>
        <p:spPr>
          <a:xfrm>
            <a:off x="6804000" y="189000"/>
            <a:ext cx="2340000" cy="3934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ative advantage 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a country has comparative advantage it can produce a good at 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wer opportunity co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an another country; Country A has to give up fewer units of other goods to produce the good in question than count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0" descr="120px-David_Ricardo(1)"/>
          <p:cNvPicPr/>
          <p:nvPr/>
        </p:nvPicPr>
        <p:blipFill>
          <a:blip r:embed="rId1"/>
          <a:stretch/>
        </p:blipFill>
        <p:spPr>
          <a:xfrm>
            <a:off x="3995640" y="333360"/>
            <a:ext cx="26640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6:56:11Z</dcterms:created>
  <dc:creator>user</dc:creator>
  <dc:description/>
  <dc:language>en-US</dc:language>
  <cp:lastModifiedBy>Julia</cp:lastModifiedBy>
  <cp:lastPrinted>2012-09-05T11:13:28Z</cp:lastPrinted>
  <dcterms:modified xsi:type="dcterms:W3CDTF">2015-07-12T09:49:11Z</dcterms:modified>
  <cp:revision>20</cp:revision>
  <dc:subject/>
  <dc:title>Slide 1</dc:title>
</cp:coreProperties>
</file>